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wmf" ContentType="image/x-wmf"/>
  <Override PartName="/ppt/media/image9.jpeg" ContentType="image/jpeg"/>
  <Override PartName="/ppt/media/image23.wmf" ContentType="image/x-wmf"/>
  <Override PartName="/ppt/media/image8.jpeg" ContentType="image/jpeg"/>
  <Override PartName="/ppt/media/image7.gif" ContentType="image/gif"/>
  <Override PartName="/ppt/media/image5.jpeg" ContentType="image/jpeg"/>
  <Override PartName="/ppt/media/image10.wmf" ContentType="image/x-wmf"/>
  <Override PartName="/ppt/media/image4.jpeg" ContentType="image/jpeg"/>
  <Override PartName="/ppt/media/image22.wmf" ContentType="image/x-wmf"/>
  <Override PartName="/ppt/media/image1.gif" ContentType="image/gif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3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693-62B3-47D6-93D9-D9F9A704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200-8B6C-493A-8D61-0DE15603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E3F-9D0C-40B8-AFC7-3A1C6754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B86-EFD4-48D0-AD4C-DE562F85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F77-2B17-4795-BEBF-67617C34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CDE6-9A39-4FE2-9C81-5B62CF9D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03D8-FFCE-4FF2-A01F-6C93B16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1BC3-C8EA-40EE-8EAF-E4E354C5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EC83-22C8-4102-BEF1-5E5E9A94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A142-BDD8-4C94-B9D0-8CDEC1F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98D5-8E4F-4302-BDCF-D6E59020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6A6-4723-46C4-8129-69796E31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C907-6A84-471F-8E7B-4FABA7B0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AA1A-5A46-4A76-A353-04F8B3D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FA55-0EB2-400E-866C-A77ECF0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064-0519-4009-850F-6E60B216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8121-6CB9-4B58-B9A3-9572C276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4E2-5681-4AFB-90CF-D191C076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663-8941-4397-82B6-E1EB105C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0C5-168F-4D71-A02C-8773F41D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75A-7DD2-4C64-9707-EE058D16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7FE-4B95-42C0-B92C-97CFA2B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7C9-BA0D-4386-A22E-70BD8DA4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40D-4822-4535-AAC5-FCC7E4F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E5CF-B618-40A9-929A-C20233FF72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991B-CC5C-47F4-A2BF-CE2261EDC3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0;&#1089;&#1090;&#1086;&#1088;&#1080;&#1103;%20%20&#1089;&#1090;&#1072;&#1090;&#1080;&#1089;&#1090;&#1080;&#1082;&#1080;.doc" TargetMode="External"/><Relationship Id="rId2" Type="http://schemas.openxmlformats.org/officeDocument/2006/relationships/hyperlink" Target="file:///&#1080;&#1089;&#1090;&#1086;&#1088;&#1080;&#1103;%20%20&#1089;&#1090;&#1072;&#1090;&#1080;&#1089;&#1090;&#1080;&#1082;&#1080;.doc" TargetMode="External"/><Relationship Id="rId3" Type="http://schemas.openxmlformats.org/officeDocument/2006/relationships/hyperlink" Target="file:///&#1080;&#1089;&#1090;&#1086;&#1088;&#1080;&#1103;%20%20&#1089;&#1090;&#1072;&#1090;&#1080;&#1089;&#1090;&#1080;&#1082;&#1080;.doc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26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МОУ  «Ребрихинская  основная  общеобразовательная  школа  №1»</a:t>
            </a:r>
            <a:r>
              <a:rPr b="1" lang="en-US" sz="7200" spc="-1" strike="noStrike">
                <a:solidFill>
                  <a:srgbClr val="990033"/>
                </a:solidFill>
                <a:latin typeface="TrueGritCTT"/>
              </a:rPr>
              <a:t> Статистика  и  математика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27640" y="3645000"/>
            <a:ext cx="2438640" cy="21636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22def"/>
                </a:solidFill>
                <a:latin typeface="Times New Roman"/>
              </a:rPr>
              <a:t>Развитие  представлений  о  статистик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92 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татистика  описывает  состояние  государства  в    настоящее  время  или  некоторый  известный  момент  в  прошл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33 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Цель  статистики  заключается  в               представлении  фактов  в  наиболее  сжатой  форм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95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татистика  состоит  в  наблюдении  явлений,  которые   могут  быть  посчитаны  или  выражены  посредством  чисе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0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татистика – это  численное  представление  фактов  из  любой  области  исследования  в  их  взаимосвяз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54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татистика  состоит  из  трех 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) сбор  статистических  све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) статистическое  исследование  полученных 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) разработка  приемов  статистического  наблюдения  и  анализа  статистических 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История  возникновения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статистики(подробнее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лавным  учетно – статистическим                             центром  в  РФ  являетс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Федеральная  служба    государствен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атистик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Росста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451512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6600"/>
                </a:solidFill>
                <a:latin typeface="NewBodoni"/>
              </a:rPr>
              <a:t>Статисти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ука, которая занимается получением, обработкой и анализом количественных данных о разнообразных массовых явлениях, происходящих  в природе и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76720" y="4416480"/>
            <a:ext cx="3167280" cy="18097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005360"/>
            <a:ext cx="4932360" cy="2519280"/>
          </a:xfrm>
          <a:prstGeom prst="flowChartMagneticTap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557360"/>
            <a:ext cx="5508360" cy="2160720"/>
          </a:xfrm>
          <a:prstGeom prst="flowChartMagneticTap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Статистические характеристик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: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Среднее арифме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яда чис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то част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 деления суммы этих чис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число слаг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ой ря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ис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азывается чис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аиболее часто встречающе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данном ря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141720"/>
            <a:ext cx="4356000" cy="266364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мах ряда чис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разность между наибольши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наименьшим из эти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1847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тдел  информации  и  баз  данных                                                                                                                                 Алтайкрайстата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(Ребрихинский  район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26920" y="1557360"/>
            <a:ext cx="8135280" cy="4645080"/>
            <a:chOff x="826920" y="1557360"/>
            <a:chExt cx="8135280" cy="4645080"/>
          </a:xfrm>
        </p:grpSpPr>
        <p:cxnSp>
          <p:nvCxnSpPr>
            <p:cNvPr id="133" name="_s53260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878800" y="2456280"/>
              <a:ext cx="878400" cy="2847960"/>
            </a:xfrm>
            <a:prstGeom prst="bentConnector3">
              <a:avLst>
                <a:gd name="adj1" fmla="val 130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53259"/>
            <p:cNvCxnSpPr>
              <a:stCxn id="137" idx="0"/>
              <a:endCxn id="135" idx="2"/>
            </p:cNvCxnSpPr>
            <p:nvPr/>
          </p:nvCxnSpPr>
          <p:spPr>
            <a:xfrm flipV="1">
              <a:off x="4894200" y="3441240"/>
              <a:ext cx="3240" cy="87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3258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3031200" y="2456280"/>
              <a:ext cx="878400" cy="2847960"/>
            </a:xfrm>
            <a:prstGeom prst="bentConnector3">
              <a:avLst>
                <a:gd name="adj1" fmla="val 130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53254"/>
            <p:cNvSpPr/>
            <p:nvPr/>
          </p:nvSpPr>
          <p:spPr>
            <a:xfrm>
              <a:off x="3674160" y="1557360"/>
              <a:ext cx="2440440" cy="1857960"/>
            </a:xfrm>
            <a:prstGeom prst="rect">
              <a:avLst/>
            </a:prstGeom>
            <a:solidFill>
              <a:srgbClr val="cccc99">
                <a:alpha val="50000"/>
              </a:srgbClr>
            </a:solidFill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bat-Bold"/>
                </a:rPr>
                <a:t>Главный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bat-Bold"/>
                </a:rPr>
                <a:t>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bat-Bold"/>
                </a:rPr>
                <a:t>специалист –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bat-Bold"/>
                </a:rPr>
                <a:t>экспер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53255"/>
            <p:cNvSpPr/>
            <p:nvPr/>
          </p:nvSpPr>
          <p:spPr>
            <a:xfrm>
              <a:off x="826920" y="4344480"/>
              <a:ext cx="2440440" cy="18579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bat"/>
                </a:rPr>
                <a:t>Специалис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bat"/>
                </a:rPr>
                <a:t>3-го  разря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3256"/>
            <p:cNvSpPr/>
            <p:nvPr/>
          </p:nvSpPr>
          <p:spPr>
            <a:xfrm>
              <a:off x="3674160" y="4344480"/>
              <a:ext cx="2440440" cy="18579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bat"/>
                </a:rPr>
                <a:t>Специалис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bat"/>
                </a:rPr>
                <a:t>3-го  разря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3257"/>
            <p:cNvSpPr/>
            <p:nvPr/>
          </p:nvSpPr>
          <p:spPr>
            <a:xfrm>
              <a:off x="6521760" y="4344480"/>
              <a:ext cx="2440440" cy="18579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bat"/>
                </a:rPr>
                <a:t>Экономис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5000">
    <p:circl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ециалисты  отдела  занимаются  сбором информации  от  организаций  и  индивидуальных  предпринимателей  Ребрихинского  района.  Они  обрабатывают  информацию,  затем  её  проверяют,  заносят  в  компьютер,  отправляют  обработанную  информацию в  вышестоящий  орган (Алтайкрайст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218f3e"/>
                </a:solidFill>
                <a:latin typeface="Times New Roman"/>
              </a:rPr>
              <a:t>Ребриха  в  цифрах  и  фактах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17920" y="3697200"/>
            <a:ext cx="4726080" cy="31608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ru-RU" sz="3800" spc="-1" strike="noStrike">
                <a:solidFill>
                  <a:srgbClr val="624470"/>
                </a:solidFill>
                <a:latin typeface="Times New Roman"/>
              </a:rPr>
              <a:t>Статистические  данные</a:t>
            </a:r>
            <a:br>
              <a:rPr sz="3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(  получены  отделом  статистики  Ребрихинского  района,  на  1.01.2009г.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15840" y="1536840"/>
          <a:ext cx="776772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536840"/>
                    <a:ext cx="776772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5000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47640" y="380880"/>
          <a:ext cx="8039160" cy="57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380880"/>
                    <a:ext cx="80391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5000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18f3e"/>
                </a:solidFill>
                <a:latin typeface="Times New Roman"/>
              </a:rPr>
              <a:t>Ребриха  в  цифрах  и  фактах:</a:t>
            </a:r>
            <a:br>
              <a:rPr sz="42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данные  предоставлены  отделом  статистики  Ребрихинского  района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2007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ось  </a:t>
            </a:r>
            <a:r>
              <a:rPr b="1" lang="ru-RU" sz="2800" spc="-1" strike="noStrike">
                <a:solidFill>
                  <a:srgbClr val="218f3e"/>
                </a:solidFill>
                <a:latin typeface="Arial"/>
              </a:rPr>
              <a:t>33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ло   </a:t>
            </a:r>
            <a:r>
              <a:rPr b="1" lang="ru-RU" sz="2800" spc="-1" strike="noStrike">
                <a:solidFill>
                  <a:srgbClr val="218f3e"/>
                </a:solidFill>
                <a:latin typeface="Arial"/>
              </a:rPr>
              <a:t>45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человек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регистрировано  </a:t>
            </a:r>
            <a:r>
              <a:rPr b="1" lang="ru-RU" sz="2800" spc="-1" strike="noStrike">
                <a:solidFill>
                  <a:srgbClr val="218f3e"/>
                </a:solidFill>
                <a:latin typeface="Arial"/>
              </a:rPr>
              <a:t>20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оржено    </a:t>
            </a:r>
            <a:r>
              <a:rPr b="1" lang="ru-RU" sz="2800" spc="-1" strike="noStrike">
                <a:solidFill>
                  <a:srgbClr val="218f3e"/>
                </a:solidFill>
                <a:latin typeface="Arial"/>
              </a:rPr>
              <a:t>1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р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80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1e80"/>
                </a:solidFill>
                <a:latin typeface="Arial"/>
              </a:rPr>
              <a:t>2008 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ось  </a:t>
            </a:r>
            <a:r>
              <a:rPr b="1" lang="ru-RU" sz="2800" spc="-1" strike="noStrike">
                <a:solidFill>
                  <a:srgbClr val="522def"/>
                </a:solidFill>
                <a:latin typeface="Arial"/>
              </a:rPr>
              <a:t>445</a:t>
            </a:r>
            <a:r>
              <a:rPr b="1" lang="ru-RU" sz="2800" spc="-1" strike="noStrike">
                <a:solidFill>
                  <a:srgbClr val="218f3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ло     </a:t>
            </a:r>
            <a:r>
              <a:rPr b="1" lang="ru-RU" sz="2800" spc="-1" strike="noStrike">
                <a:solidFill>
                  <a:srgbClr val="522def"/>
                </a:solidFill>
                <a:latin typeface="Arial"/>
              </a:rPr>
              <a:t>45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регистрировано  </a:t>
            </a:r>
            <a:r>
              <a:rPr b="1" lang="ru-RU" sz="2800" spc="-1" strike="noStrike">
                <a:solidFill>
                  <a:srgbClr val="522def"/>
                </a:solidFill>
                <a:latin typeface="Arial"/>
              </a:rPr>
              <a:t>225</a:t>
            </a:r>
            <a:r>
              <a:rPr b="1" lang="ru-RU" sz="2800" spc="-1" strike="noStrike">
                <a:solidFill>
                  <a:srgbClr val="218f3e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торжено    </a:t>
            </a:r>
            <a:r>
              <a:rPr b="1" lang="ru-RU" sz="2800" spc="-1" strike="noStrike">
                <a:solidFill>
                  <a:srgbClr val="522def"/>
                </a:solidFill>
                <a:latin typeface="Arial"/>
              </a:rPr>
              <a:t>123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р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35320" y="2133720"/>
            <a:ext cx="135720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96080" y="4581360"/>
            <a:ext cx="1447920" cy="19162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1" lang="en-US" sz="4800" spc="-1" strike="noStrike">
                <a:solidFill>
                  <a:srgbClr val="990033"/>
                </a:solidFill>
                <a:latin typeface="Times New Roman"/>
              </a:rPr>
              <a:t>Цель  проекта: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изучить  связ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татистики  и 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ебриха  в  цифрах  и  фактах: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(данные  опубликованы  в  районной  газете  «Знамя  труда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66480" y="1613880"/>
            <a:ext cx="6781680" cy="5112360"/>
            <a:chOff x="2166480" y="1613880"/>
            <a:chExt cx="6781680" cy="5112360"/>
          </a:xfrm>
        </p:grpSpPr>
        <p:sp>
          <p:nvSpPr>
            <p:cNvPr id="158" name="_s75827"/>
            <p:cNvSpPr/>
            <p:nvPr/>
          </p:nvSpPr>
          <p:spPr>
            <a:xfrm flipH="1" flipV="1">
              <a:off x="3523320" y="3530520"/>
              <a:ext cx="635400" cy="32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75826"/>
            <p:cNvSpPr/>
            <p:nvPr/>
          </p:nvSpPr>
          <p:spPr>
            <a:xfrm>
              <a:off x="2166480" y="2574360"/>
              <a:ext cx="1458000" cy="1278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тдохнули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анатори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75823"/>
            <p:cNvSpPr/>
            <p:nvPr/>
          </p:nvSpPr>
          <p:spPr>
            <a:xfrm flipH="1">
              <a:off x="3525480" y="4489200"/>
              <a:ext cx="635400" cy="32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75822"/>
            <p:cNvSpPr/>
            <p:nvPr/>
          </p:nvSpPr>
          <p:spPr>
            <a:xfrm>
              <a:off x="2168640" y="4491000"/>
              <a:ext cx="1458000" cy="1278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958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хвачен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алозатратным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ами  отдыха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  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75825"/>
            <p:cNvSpPr/>
            <p:nvPr/>
          </p:nvSpPr>
          <p:spPr>
            <a:xfrm>
              <a:off x="4790520" y="4805640"/>
              <a:ext cx="0" cy="64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75824"/>
            <p:cNvSpPr/>
            <p:nvPr/>
          </p:nvSpPr>
          <p:spPr>
            <a:xfrm>
              <a:off x="4062960" y="5447520"/>
              <a:ext cx="1458000" cy="1278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7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  «малых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имирязевках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75820"/>
            <p:cNvSpPr/>
            <p:nvPr/>
          </p:nvSpPr>
          <p:spPr>
            <a:xfrm>
              <a:off x="5417640" y="4487040"/>
              <a:ext cx="635400" cy="32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75819"/>
            <p:cNvSpPr/>
            <p:nvPr/>
          </p:nvSpPr>
          <p:spPr>
            <a:xfrm>
              <a:off x="5954400" y="4489200"/>
              <a:ext cx="1458360" cy="1278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67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 лагерях  с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невны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75818"/>
            <p:cNvSpPr/>
            <p:nvPr/>
          </p:nvSpPr>
          <p:spPr>
            <a:xfrm flipV="1">
              <a:off x="5417640" y="3529080"/>
              <a:ext cx="633240" cy="32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75817"/>
            <p:cNvSpPr/>
            <p:nvPr/>
          </p:nvSpPr>
          <p:spPr>
            <a:xfrm>
              <a:off x="5954400" y="2572560"/>
              <a:ext cx="1458360" cy="1278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профильных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агер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75816"/>
            <p:cNvSpPr/>
            <p:nvPr/>
          </p:nvSpPr>
          <p:spPr>
            <a:xfrm flipV="1">
              <a:off x="4788360" y="2890080"/>
              <a:ext cx="0" cy="64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75815"/>
            <p:cNvSpPr/>
            <p:nvPr/>
          </p:nvSpPr>
          <p:spPr>
            <a:xfrm>
              <a:off x="4060440" y="1613880"/>
              <a:ext cx="1458000" cy="1278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аевые  и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йо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аге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75814"/>
            <p:cNvSpPr/>
            <p:nvPr/>
          </p:nvSpPr>
          <p:spPr>
            <a:xfrm>
              <a:off x="4060440" y="3532680"/>
              <a:ext cx="1458000" cy="1278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522def"/>
                  </a:solidFill>
                  <a:latin typeface="Arial"/>
                </a:rPr>
                <a:t>2556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def"/>
                  </a:solidFill>
                  <a:latin typeface="Arial"/>
                </a:rPr>
                <a:t>  </a:t>
              </a:r>
              <a:r>
                <a:rPr b="1" i="1" lang="en-US" sz="1400" spc="-1" strike="noStrike">
                  <a:solidFill>
                    <a:srgbClr val="522def"/>
                  </a:solidFill>
                  <a:latin typeface="Arial"/>
                </a:rPr>
                <a:t>детей  охвачено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522def"/>
                  </a:solidFill>
                  <a:latin typeface="Arial"/>
                </a:rPr>
                <a:t>организованны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522def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522def"/>
                  </a:solidFill>
                  <a:latin typeface="Arial"/>
                </a:rPr>
                <a:t>отдых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380720" y="5229360"/>
              <a:ext cx="1567440" cy="141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113200" cy="14097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1500  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новогодних  елочек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заготовили  лесозаготовительные  участки 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в   Подстепном и  Воронихе,   ООО «Ребрихинский лесхоз»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75520" y="1804680"/>
            <a:ext cx="7392240" cy="3344760"/>
            <a:chOff x="875520" y="1804680"/>
            <a:chExt cx="7392240" cy="3344760"/>
          </a:xfrm>
        </p:grpSpPr>
        <p:sp>
          <p:nvSpPr>
            <p:cNvPr id="175" name="_s77831"/>
            <p:cNvSpPr/>
            <p:nvPr/>
          </p:nvSpPr>
          <p:spPr>
            <a:xfrm>
              <a:off x="3572640" y="2398320"/>
              <a:ext cx="2000160" cy="1700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77832"/>
            <p:cNvSpPr/>
            <p:nvPr/>
          </p:nvSpPr>
          <p:spPr>
            <a:xfrm>
              <a:off x="3572640" y="1804680"/>
              <a:ext cx="20001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20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ализовано  в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нун  Нового  г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77833"/>
            <p:cNvSpPr/>
            <p:nvPr/>
          </p:nvSpPr>
          <p:spPr>
            <a:xfrm>
              <a:off x="4230000" y="3366720"/>
              <a:ext cx="2000160" cy="1700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77834"/>
            <p:cNvSpPr/>
            <p:nvPr/>
          </p:nvSpPr>
          <p:spPr>
            <a:xfrm>
              <a:off x="6267600" y="4725720"/>
              <a:ext cx="20001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000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ублей  штраф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ставляет  незакон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готовка лесных  красави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77835"/>
            <p:cNvSpPr/>
            <p:nvPr/>
          </p:nvSpPr>
          <p:spPr>
            <a:xfrm>
              <a:off x="2915280" y="3366720"/>
              <a:ext cx="1999800" cy="170028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77836"/>
            <p:cNvSpPr/>
            <p:nvPr/>
          </p:nvSpPr>
          <p:spPr>
            <a:xfrm>
              <a:off x="875520" y="4725720"/>
              <a:ext cx="20001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lain" startAt="50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есплатн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реданы  в  шко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  детские  с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308720" y="1844640"/>
            <a:ext cx="1443240" cy="1943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701120" y="2565360"/>
            <a:ext cx="1442880" cy="1943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516720" y="2060640"/>
            <a:ext cx="1442880" cy="1942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5127480"/>
            <a:ext cx="2268360" cy="17305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1e80"/>
                </a:solidFill>
                <a:latin typeface="Times New Roman"/>
              </a:rPr>
              <a:t>     </a:t>
            </a:r>
            <a:r>
              <a:rPr b="1" lang="en-US" sz="3800" spc="-1" strike="noStrike">
                <a:solidFill>
                  <a:srgbClr val="0a1e80"/>
                </a:solidFill>
                <a:latin typeface="Times New Roman"/>
              </a:rPr>
              <a:t>Ребриха  в  цифрах  и  фактах: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(данные  опубликованы  в  районной  газете  «Знамя  труда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ловека  прибыли  в наш  район  в  2008  году на  постоянное  место  ж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игранты                                  трудоспособного  возр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6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ыехали  за  пределы 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з  них  люди                                                 трудоспособ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5892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61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ных  пролечено  в стационарны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дел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йонной  боль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55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еловек  находилось  в  реанимационном  отде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ntiqua-Bold"/>
              </a:rPr>
              <a:t>85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операций выполн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380360" y="1628640"/>
            <a:ext cx="1619280" cy="20289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татистические  данные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(собранные  и  обработанные  авторами  проекта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4220640"/>
            <a:ext cx="77724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атистика  и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 социологическом  опросе  участвовало  89  учеников  нашей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атистика  имен  представлена  в  диаграм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е  популярное  имя:  Алекса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ые  редкие  имена:  Карина,  Артём,  Максим,  София,  Ярослав,  Богдан,  Эльвира,  Руслан,  Яна,  Ольга,  Зоя,  Владимир,  Анжела,  Олжас,  Жаксалык,  Оразгуль,  Любовь,  Витя, Миша,  Света,  Андрей,  Алексей,  Кристина,  Олес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835280" y="1341360"/>
          <a:ext cx="5041800" cy="28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341360"/>
                    <a:ext cx="50418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900000" y="1628280"/>
            <a:ext cx="3810240" cy="21891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404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ntiqua-Bold"/>
              </a:rPr>
              <a:t>Статистика  проживания 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ntiqua-Bold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ntiqua-Bold"/>
              </a:rPr>
              <a:t>на  улицах  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опросе  участвовало  86  учеников нашей 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 диаграммы видно, что  больше  всего  учеников  нашей  школы живут  на  ул.Революционной, а  меньше  вс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 ул. Коммун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16000" y="2593800"/>
          <a:ext cx="7488360" cy="42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93800"/>
                    <a:ext cx="748836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5000">
    <p:circl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835280" y="3710160"/>
          <a:ext cx="5329080" cy="31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710160"/>
                    <a:ext cx="53290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Успеваемость  по  математик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4360" y="836640"/>
          <a:ext cx="8280360" cy="2941560"/>
        </p:xfrm>
        <a:graphic>
          <a:graphicData uri="http://schemas.openxmlformats.org/drawingml/2006/table">
            <a:tbl>
              <a:tblPr/>
              <a:tblGrid>
                <a:gridCol w="2239920"/>
                <a:gridCol w="1682640"/>
                <a:gridCol w="1452600"/>
                <a:gridCol w="1141560"/>
                <a:gridCol w="1763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Ф.И. 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I 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II четвер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III 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средний  балл  у 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7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асильева  Ол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,666666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урилов 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ель  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естерова  Д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изинец  Лю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666666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анов 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666666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fe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ернышов  Са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333333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редний 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5000">
    <p:circl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Внеучебная  деятельность  учеников  нашей  школ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522def"/>
                </a:solidFill>
                <a:latin typeface="Times New Roman"/>
              </a:rPr>
              <a:t>было  опроше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22def"/>
                </a:solidFill>
                <a:latin typeface="Times New Roman"/>
              </a:rPr>
              <a:t>ребят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из 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55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сещают  спортивные  се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2def"/>
                </a:solidFill>
                <a:latin typeface="Times New Roman"/>
              </a:rPr>
              <a:t>2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шахматный  круж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7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анцеваль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2def"/>
                </a:solidFill>
                <a:latin typeface="Times New Roman"/>
              </a:rPr>
              <a:t>17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ужок  по  ИЗО  «Живая  кист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исероплет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2def"/>
                </a:solidFill>
                <a:latin typeface="Times New Roman"/>
              </a:rPr>
              <a:t>4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ъединение  «Платье  для  кук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узыкальную  шко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22def"/>
                </a:solidFill>
                <a:latin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атр – студию  «Род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Статистика  категорий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семей  учащих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исследовано 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73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5640" y="2205000"/>
          <a:ext cx="7488360" cy="46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05000"/>
                    <a:ext cx="748836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25000">
    <p:circl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6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6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33"/>
                </a:solidFill>
                <a:latin typeface="Times New Roman"/>
              </a:rPr>
              <a:t>Исследую  дату  рождения  учащихся  нашей школы,  мы  выяснили, что наибольшее  число  школьников родилось </a:t>
            </a:r>
            <a:r>
              <a:rPr b="1" lang="en-US" sz="2400" spc="-1" strike="noStrike">
                <a:solidFill>
                  <a:srgbClr val="2d5d3f"/>
                </a:solidFill>
                <a:latin typeface="Times New Roman"/>
              </a:rPr>
              <a:t>весной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,  </a:t>
            </a:r>
            <a:r>
              <a:rPr b="1" i="1" lang="en-US" sz="2400" spc="-1" strike="noStrike">
                <a:solidFill>
                  <a:srgbClr val="330033"/>
                </a:solidFill>
                <a:latin typeface="Times New Roman"/>
              </a:rPr>
              <a:t>а  именинников  больше  всего  в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d5d3f"/>
                </a:solidFill>
                <a:latin typeface="Times New Roman"/>
              </a:rPr>
              <a:t>ма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2133720"/>
          <a:ext cx="9144000" cy="4492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4440"/>
                <a:gridCol w="1141560"/>
                <a:gridCol w="1089000"/>
                <a:gridCol w="1197000"/>
                <a:gridCol w="1143000"/>
              </a:tblGrid>
              <a:tr h="89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522def"/>
                          </a:solidFill>
                          <a:latin typeface="Arial"/>
                        </a:rPr>
                        <a:t>З и м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 е с н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 е т 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 с е н 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гу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 кол - 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 кол - 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 кол - 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 кол - 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</a:tbl>
          </a:graphicData>
        </a:graphic>
      </p:graphicFrame>
    </p:spTree>
  </p:cSld>
  <p:transition spd="slow" advTm="25000">
    <p:circl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вторы  проект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асильева  Олеся,  ученица  8 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стерова  Даша,  ученица  8 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ль  Юля,  ученица  8 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нцупова  Оксана  Николаевна,  учитель                                    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Задачи  проекта: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учить  историю   возникновения  статис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смотреть связь  статистики   и матема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знакомиться с  работой  отдела  статистики Ребрихинского  райо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вести  сбор  и  обработку  статистических  данных  по 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Обоснование  проекта: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 ушедший XX век пришлось бурное развитие и внедрение теории вероятностей, математической статистики в различные области научной и практической деятельности человека, которое продолжается и в настоящее время. Оказалось, что вероятностно-статистические представления, методы, с точки зрения современной науки, являются наиболее эффективными средствами познания и моделирования природных и социальных явлений, процессов, объектов и их характеристик.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Современное естествознание исходит из представлений, согласно которым все явления природы носят статистический характер, а ее законы могут получить полную и точную формулировку  в терминах теории вероят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Астрономия использует эти идеи в исследовании распределения  потоков космических частиц, распределения во времени и на поверхности Солнца пятен и т.д.                                   Биология привлекает вероятностные идеи для изучения передачи возбуждения, устройства памяти, передачи наследственных свойств, расселения животных на территории, взаимоотношений хищника и жертвы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татистические методы успешно используются в исторических исследованиях, в археологии, для расшифровки надписей на древних язы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татистика это раздел математики для обработки результатов опытов. Под опытом будем понимать не только физические или химические опыты, но результаты социологических исследований, опросов общественного мнения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этому   мы  решили изучить историю  возникновения  статистики установить  связь  математики  и  статистики,  собрать  и  обработать некоторые    статистических  данн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1" lang="en-US" sz="4200" spc="-1" strike="noStrike">
                <a:solidFill>
                  <a:srgbClr val="990033"/>
                </a:solidFill>
                <a:latin typeface="Times New Roman"/>
              </a:rPr>
              <a:t>Алгоритм  рабо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1  стад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дготовка  учащихся  к 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2  стад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Постановка  целей  и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Создание  рабочих  груп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3  стад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бор и  обработка 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4  стад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формление  и  защ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5  стад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В  ходе  работы  над  проектом  дети  учатс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ботать  с  дополнительной литератур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ственно относится к возложенным на них поруче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ботать  с  информац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аться с должностными лиц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ережно относиться к результатам своего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циональному распределению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заимопониманию внутри коллекти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en-US" sz="4200" spc="-1" strike="noStrike">
                <a:solidFill>
                  <a:srgbClr val="990033"/>
                </a:solidFill>
                <a:latin typeface="Times New Roman"/>
              </a:rPr>
              <a:t>Ожидаемые  результа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здание  базы  данных  для  использования  в  изучении  темы  «Статистика» (7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ircl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ля  работы  над  проектом 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были   созданы  три  групп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  группа  занималась  изучением  истории  возникновения  статис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  группа  знакомилась  с  работой  отдела  статистики   Ребрихинского  райо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  группа  осуществляла  сбор  информации  для  проведения  статистических  исслед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j0343461" descr=""/>
          <p:cNvPicPr/>
          <p:nvPr/>
        </p:nvPicPr>
        <p:blipFill>
          <a:blip r:embed="rId1"/>
          <a:stretch/>
        </p:blipFill>
        <p:spPr>
          <a:xfrm>
            <a:off x="6948360" y="4869000"/>
            <a:ext cx="2000520" cy="17427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Результаты  работы  групп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336600"/>
                </a:solidFill>
                <a:latin typeface="Times New Roman"/>
              </a:rPr>
              <a:t>Статис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atus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 переводе  с  латинского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значает «состояние»  или  «политическое  состояние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4324320"/>
            <a:ext cx="3024360" cy="23796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095640" cy="23572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p:transition spd="slow" advTm="25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05:49Z</dcterms:created>
  <dc:creator>User</dc:creator>
  <dc:description/>
  <dc:language>en-US</dc:language>
  <cp:lastModifiedBy>Customer</cp:lastModifiedBy>
  <dcterms:modified xsi:type="dcterms:W3CDTF">2010-01-17T20:36:54Z</dcterms:modified>
  <cp:revision>16</cp:revision>
  <dc:subject/>
  <dc:title>Цифры   и  факты</dc:title>
</cp:coreProperties>
</file>